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7C88D-0DAA-4649-A56E-ECEAE8F1F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656CB-8D08-4D0B-B0E4-63B78EB8E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98BF2-77A4-4794-A4F0-B6590A6DE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3E8B4-F261-408B-921D-109823CC8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E40A-689C-40A0-AFF1-38B79C65F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4887C-01CD-4E33-97D0-3FDE87B41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7A139-F545-4CF4-9D49-26E3ACEFB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A5662-D6F9-4BAB-9A21-E8BAF404C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AC57D-7819-452C-BDFF-FA376B53A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CFF3D-C092-44A8-9583-CBD12D28D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345BF-DC44-475C-BD6A-3F224CA1A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2540E-2C8D-4593-A3C6-83D980E57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F80E-00D3-4C99-BEF9-D42A6ABED4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2:51:17Z</dcterms:modified>
  <cp:revision>42</cp:revision>
  <dc:subject/>
  <dc:title>SALARIUL</dc:title>
</cp:coreProperties>
</file>